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026-4E2E-4B51-A4D7-92179B62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E9D-7BC8-4F36-95F8-4D4E5861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33B-5D44-45B2-8473-8603E45F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F23-C163-48E7-8AEC-7623522D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7B6D-F548-4206-A590-FAD4A81D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BD1A-E47E-4724-B012-195220E4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B99F-DD14-4003-858F-B818D7BC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E4C0-A520-4185-8DE3-1F11E036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FD70-40D0-482C-A147-66F0B1F9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F17F-B22B-4443-B04E-8D4503BC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7ADF-FF34-47AA-8308-B2FD6C5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77C-8147-4D7A-BE10-C836AECB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456-8D24-47FA-B70D-57DAE8FF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EA27-1740-4FDB-B91A-B482B94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02D0-EFBF-46D2-8297-F0B28612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B9DE-83AC-4B1F-8361-F9CF4EC4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22B2-CB61-468B-929E-395AEF08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1BFA-7DA4-49D9-BD2C-ECCA1F1F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BAC-A9D0-40BD-8509-A9D86BEB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5C3-4C4F-4A16-A193-ACF24DCF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DD7-0941-4C91-B6DC-C87E3354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893-DA4D-4BC2-8BFA-73428151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8C1-1FC1-4CF7-8C17-F6C239EE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EC3-F840-4CC5-80CC-0642294F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B957-0947-4FCC-B63B-F8039643A3C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убровская №2 СОШ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A756-FB8B-4F5F-8849-791A3F17F0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1.jpeg"/><Relationship Id="rId5" Type="http://schemas.openxmlformats.org/officeDocument/2006/relationships/image" Target="../media/image1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Линзы.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птическая сила линзы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8" descr="PE01460_"/>
          <p:cNvPicPr/>
          <p:nvPr/>
        </p:nvPicPr>
        <p:blipFill>
          <a:blip r:embed="rId1"/>
          <a:stretch/>
        </p:blipFill>
        <p:spPr>
          <a:xfrm>
            <a:off x="7380360" y="260280"/>
            <a:ext cx="1181160" cy="1467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1928880" y="4143240"/>
            <a:ext cx="507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физики  МБОУ Дубровской №1 СОШ им. генерал-майора Никитина И.С. Пгт Дубровка, Дубровского райо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я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овьев Анатолий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57C5-612F-48B4-9B1E-6E98A4F694E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47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истики линз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189" name="Line 7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Text Box 9"/>
          <p:cNvSpPr/>
          <p:nvPr/>
        </p:nvSpPr>
        <p:spPr>
          <a:xfrm>
            <a:off x="250920" y="364500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кусное расстоя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00364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ческая си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28BA-B4EE-4B35-AEB7-DA57E18E160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10"/>
          <p:cNvPicPr/>
          <p:nvPr/>
        </p:nvPicPr>
        <p:blipFill>
          <a:blip r:embed="rId1"/>
          <a:stretch/>
        </p:blipFill>
        <p:spPr>
          <a:xfrm>
            <a:off x="2143080" y="1571760"/>
            <a:ext cx="4551480" cy="4835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900000" y="26028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ная и побочная оптические ос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CB3E-8304-4424-AC87-4347DF4D757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2. Как называется каждая из линз, изображенных на рисунке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каждый правильный ответ – 1 балл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5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199" name="Picture 8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2411280" y="2276640"/>
            <a:ext cx="825480" cy="2242440"/>
            <a:chOff x="2411280" y="2276640"/>
            <a:chExt cx="825480" cy="2242440"/>
          </a:xfrm>
        </p:grpSpPr>
        <p:pic>
          <p:nvPicPr>
            <p:cNvPr id="202" name="Picture 9" descr="16"/>
            <p:cNvPicPr/>
            <p:nvPr/>
          </p:nvPicPr>
          <p:blipFill>
            <a:blip r:embed="rId2"/>
            <a:stretch/>
          </p:blipFill>
          <p:spPr>
            <a:xfrm>
              <a:off x="2411280" y="2276640"/>
              <a:ext cx="8254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6"/>
            <p:cNvSpPr/>
            <p:nvPr/>
          </p:nvSpPr>
          <p:spPr>
            <a:xfrm>
              <a:off x="2411280" y="4059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05" name="Picture 10" descr="17"/>
            <p:cNvPicPr/>
            <p:nvPr/>
          </p:nvPicPr>
          <p:blipFill>
            <a:blip r:embed="rId3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8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7451640" y="2205000"/>
            <a:ext cx="673200" cy="2259720"/>
            <a:chOff x="7451640" y="2205000"/>
            <a:chExt cx="673200" cy="2259720"/>
          </a:xfrm>
        </p:grpSpPr>
        <p:pic>
          <p:nvPicPr>
            <p:cNvPr id="208" name="Picture 11" descr="18"/>
            <p:cNvPicPr/>
            <p:nvPr/>
          </p:nvPicPr>
          <p:blipFill>
            <a:blip r:embed="rId4"/>
            <a:stretch/>
          </p:blipFill>
          <p:spPr>
            <a:xfrm>
              <a:off x="7451640" y="2205000"/>
              <a:ext cx="67320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20"/>
            <p:cNvSpPr/>
            <p:nvPr/>
          </p:nvSpPr>
          <p:spPr>
            <a:xfrm>
              <a:off x="7451640" y="400500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11" name="Picture 12" descr="Без имени-2"/>
            <p:cNvPicPr/>
            <p:nvPr/>
          </p:nvPicPr>
          <p:blipFill>
            <a:blip r:embed="rId5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2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3708360" y="3357720"/>
            <a:ext cx="736560" cy="2259720"/>
            <a:chOff x="3708360" y="3357720"/>
            <a:chExt cx="736560" cy="2259720"/>
          </a:xfrm>
        </p:grpSpPr>
        <p:pic>
          <p:nvPicPr>
            <p:cNvPr id="214" name="Picture 13" descr="19"/>
            <p:cNvPicPr/>
            <p:nvPr/>
          </p:nvPicPr>
          <p:blipFill>
            <a:blip r:embed="rId6"/>
            <a:stretch/>
          </p:blipFill>
          <p:spPr>
            <a:xfrm>
              <a:off x="3708360" y="3357720"/>
              <a:ext cx="73656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4"/>
            <p:cNvSpPr/>
            <p:nvPr/>
          </p:nvSpPr>
          <p:spPr>
            <a:xfrm>
              <a:off x="3708360" y="51577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539640" y="1700280"/>
            <a:ext cx="8604360" cy="4143600"/>
            <a:chOff x="539640" y="1700280"/>
            <a:chExt cx="8604360" cy="4143600"/>
          </a:xfrm>
        </p:grpSpPr>
        <p:sp>
          <p:nvSpPr>
            <p:cNvPr id="217" name="Text Box 26"/>
            <p:cNvSpPr/>
            <p:nvPr/>
          </p:nvSpPr>
          <p:spPr>
            <a:xfrm>
              <a:off x="539640" y="5300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27"/>
            <p:cNvSpPr/>
            <p:nvPr/>
          </p:nvSpPr>
          <p:spPr>
            <a:xfrm>
              <a:off x="1763640" y="170028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2987640" y="54450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лоск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29"/>
            <p:cNvSpPr/>
            <p:nvPr/>
          </p:nvSpPr>
          <p:spPr>
            <a:xfrm>
              <a:off x="4140360" y="1989000"/>
              <a:ext cx="23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двояковогнут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30"/>
            <p:cNvSpPr/>
            <p:nvPr/>
          </p:nvSpPr>
          <p:spPr>
            <a:xfrm>
              <a:off x="5724360" y="515772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ыпукловогнут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31"/>
            <p:cNvSpPr/>
            <p:nvPr/>
          </p:nvSpPr>
          <p:spPr>
            <a:xfrm>
              <a:off x="6443640" y="1844640"/>
              <a:ext cx="27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огнутовыпукл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ED59-899A-4C70-A505-54DE2EEF22D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. Под какими номерами изображены рассеивающие линзы?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(за правильный ответ – 6 баллов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1332000" y="3141720"/>
            <a:ext cx="698400" cy="2331360"/>
            <a:chOff x="1332000" y="3141720"/>
            <a:chExt cx="698400" cy="2331360"/>
          </a:xfrm>
        </p:grpSpPr>
        <p:pic>
          <p:nvPicPr>
            <p:cNvPr id="226" name="Picture 4" descr="15"/>
            <p:cNvPicPr/>
            <p:nvPr/>
          </p:nvPicPr>
          <p:blipFill>
            <a:blip r:embed="rId1"/>
            <a:stretch/>
          </p:blipFill>
          <p:spPr>
            <a:xfrm>
              <a:off x="1332000" y="3141720"/>
              <a:ext cx="69840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403280" y="5013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4716360" y="2492280"/>
            <a:ext cx="673200" cy="2272680"/>
            <a:chOff x="4716360" y="2492280"/>
            <a:chExt cx="673200" cy="2272680"/>
          </a:xfrm>
        </p:grpSpPr>
        <p:pic>
          <p:nvPicPr>
            <p:cNvPr id="229" name="Picture 10" descr="17"/>
            <p:cNvPicPr/>
            <p:nvPr/>
          </p:nvPicPr>
          <p:blipFill>
            <a:blip r:embed="rId2"/>
            <a:stretch/>
          </p:blipFill>
          <p:spPr>
            <a:xfrm>
              <a:off x="4716360" y="2492280"/>
              <a:ext cx="6732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1"/>
            <p:cNvSpPr/>
            <p:nvPr/>
          </p:nvSpPr>
          <p:spPr>
            <a:xfrm>
              <a:off x="4802040" y="43052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6227640" y="2997360"/>
            <a:ext cx="787320" cy="2332800"/>
            <a:chOff x="6227640" y="2997360"/>
            <a:chExt cx="787320" cy="2332800"/>
          </a:xfrm>
        </p:grpSpPr>
        <p:pic>
          <p:nvPicPr>
            <p:cNvPr id="232" name="Picture 16" descr="Без имени-2"/>
            <p:cNvPicPr/>
            <p:nvPr/>
          </p:nvPicPr>
          <p:blipFill>
            <a:blip r:embed="rId3"/>
            <a:stretch/>
          </p:blipFill>
          <p:spPr>
            <a:xfrm>
              <a:off x="6227640" y="2997360"/>
              <a:ext cx="78732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7"/>
            <p:cNvSpPr/>
            <p:nvPr/>
          </p:nvSpPr>
          <p:spPr>
            <a:xfrm>
              <a:off x="6300720" y="48704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28"/>
          <p:cNvGrpSpPr/>
          <p:nvPr/>
        </p:nvGrpSpPr>
        <p:grpSpPr>
          <a:xfrm>
            <a:off x="2411280" y="2205000"/>
            <a:ext cx="5713560" cy="3412440"/>
            <a:chOff x="2411280" y="2205000"/>
            <a:chExt cx="5713560" cy="3412440"/>
          </a:xfrm>
        </p:grpSpPr>
        <p:grpSp>
          <p:nvGrpSpPr>
            <p:cNvPr id="235" name="Group 6"/>
            <p:cNvGrpSpPr/>
            <p:nvPr/>
          </p:nvGrpSpPr>
          <p:grpSpPr>
            <a:xfrm>
              <a:off x="2411280" y="2276640"/>
              <a:ext cx="825480" cy="2242440"/>
              <a:chOff x="2411280" y="2276640"/>
              <a:chExt cx="825480" cy="2242440"/>
            </a:xfrm>
          </p:grpSpPr>
          <p:pic>
            <p:nvPicPr>
              <p:cNvPr id="236" name="Picture 7" descr="16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2276640"/>
                <a:ext cx="825480" cy="187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Text Box 8"/>
              <p:cNvSpPr/>
              <p:nvPr/>
            </p:nvSpPr>
            <p:spPr>
              <a:xfrm>
                <a:off x="2411280" y="4059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"/>
            <p:cNvGrpSpPr/>
            <p:nvPr/>
          </p:nvGrpSpPr>
          <p:grpSpPr>
            <a:xfrm>
              <a:off x="7451640" y="2205000"/>
              <a:ext cx="673200" cy="2259720"/>
              <a:chOff x="7451640" y="2205000"/>
              <a:chExt cx="673200" cy="2259720"/>
            </a:xfrm>
          </p:grpSpPr>
          <p:pic>
            <p:nvPicPr>
              <p:cNvPr id="239" name="Picture 13" descr="18"/>
              <p:cNvPicPr/>
              <p:nvPr/>
            </p:nvPicPr>
            <p:blipFill>
              <a:blip r:embed="rId5"/>
              <a:stretch/>
            </p:blipFill>
            <p:spPr>
              <a:xfrm>
                <a:off x="7451640" y="2205000"/>
                <a:ext cx="67320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14"/>
              <p:cNvSpPr/>
              <p:nvPr/>
            </p:nvSpPr>
            <p:spPr>
              <a:xfrm>
                <a:off x="7451640" y="4005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8"/>
            <p:cNvGrpSpPr/>
            <p:nvPr/>
          </p:nvGrpSpPr>
          <p:grpSpPr>
            <a:xfrm>
              <a:off x="3708360" y="3357720"/>
              <a:ext cx="736560" cy="2259720"/>
              <a:chOff x="3708360" y="3357720"/>
              <a:chExt cx="736560" cy="2259720"/>
            </a:xfrm>
          </p:grpSpPr>
          <p:pic>
            <p:nvPicPr>
              <p:cNvPr id="242" name="Picture 19" descr="19"/>
              <p:cNvPicPr/>
              <p:nvPr/>
            </p:nvPicPr>
            <p:blipFill>
              <a:blip r:embed="rId6"/>
              <a:stretch/>
            </p:blipFill>
            <p:spPr>
              <a:xfrm>
                <a:off x="3708360" y="3357720"/>
                <a:ext cx="736560" cy="194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20"/>
              <p:cNvSpPr/>
              <p:nvPr/>
            </p:nvSpPr>
            <p:spPr>
              <a:xfrm>
                <a:off x="3708360" y="515772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64 -0.01389 C 0.13264 -0.04723 0.23264 -0.08033 0.27448 -0.09561 C 0.31632 -0.11088 0.30018 -0.10857 0.28421 -0.10625 E">
                                      <p:cBhvr>
                                        <p:cTn id="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1.11111E-006 C -0.00607 0.01204 -0.00954 0.00833 -0.021 0.00648 C -0.02985 0.00255 -0.03888 -0.00185 -0.04687 -0.00856 C -0.04947 -0.02361 -0.04617 -0.01181 -0.05329 -0.02384 C -0.05572 -0.02778 -0.05972 -0.03657 -0.05972 -0.03657 C -0.06249 -0.04815 -0.06197 -0.05417 -0.071 -0.0581 C -0.07256 -0.05949 -0.07708 -0.06042 -0.07586 -0.0625 C -0.07378 -0.0662 -0.06614 -0.06667 -0.06614 -0.06667 C -0.06406 -0.07523 -0.06458 -0.07083 -0.06458 -0.07963 E">
                                      <p:cBhvr>
                                        <p:cTn id="18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BBF6-CF00-43AC-8ECD-FF9010B9ACF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20"/>
          <p:cNvPicPr/>
          <p:nvPr/>
        </p:nvPicPr>
        <p:blipFill>
          <a:blip r:embed="rId1"/>
          <a:stretch/>
        </p:blipFill>
        <p:spPr>
          <a:xfrm>
            <a:off x="1285920" y="2928960"/>
            <a:ext cx="4105080" cy="3500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826920" y="333360"/>
            <a:ext cx="7705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Какая линза изображена на рисун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Как называется точк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Как называется точка 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Как называется отрезок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Фокусы линзы в данном случае мнимые или действительн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6443640" y="4149720"/>
            <a:ext cx="22320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каждый правильный ответ – 1 бал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35F1-EF5E-4DD1-84DE-277B38F1933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47640" y="112536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ие характеристики линз Вы знает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2340000" y="2492280"/>
            <a:ext cx="4176720" cy="936720"/>
            <a:chOff x="2340000" y="2492280"/>
            <a:chExt cx="4176720" cy="936720"/>
          </a:xfrm>
        </p:grpSpPr>
        <p:sp>
          <p:nvSpPr>
            <p:cNvPr id="251" name="Line 4"/>
            <p:cNvSpPr/>
            <p:nvPr/>
          </p:nvSpPr>
          <p:spPr>
            <a:xfrm flipH="1">
              <a:off x="2340000" y="2492280"/>
              <a:ext cx="180000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572000" y="2492280"/>
              <a:ext cx="1944720" cy="936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395280" y="3645000"/>
            <a:ext cx="8208720" cy="520560"/>
            <a:chOff x="395280" y="3645000"/>
            <a:chExt cx="8208720" cy="520560"/>
          </a:xfrm>
        </p:grpSpPr>
        <p:sp>
          <p:nvSpPr>
            <p:cNvPr id="254" name="Text Box 6"/>
            <p:cNvSpPr/>
            <p:nvPr/>
          </p:nvSpPr>
          <p:spPr>
            <a:xfrm>
              <a:off x="395280" y="3645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Фокусное расстоя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5148000" y="36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Оптическая сил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4C55-9233-4140-89BE-60589EB1CC2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Дайте ответы на предложенные ниже вопросы (за активную работу – 5 баллов)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фокусное расстояние линзы, если известна ее оптическая сил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определить оптическую силу системы двух плотно прижатых друг к другу тонких линз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кажите единицы измерения фокусного расстояния и оптической силы линз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5F72-93C2-45C6-9079-D3CB7155C6F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Решите предложенные ниже задачи: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у равно фокусное расстояние линзы с оптической силой, равной -25 дптр? Какого вида эта линз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пределите фокусное расстояние системы двух плотно прижатых друг к другу тонких линз, если фокусное расстояние одной из линз равно 25 см, а второй – 40 с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DA48-8A7A-413B-8C94-1CDCEAF2B53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66"/>
                </a:solidFill>
                <a:latin typeface="Arial"/>
              </a:rPr>
              <a:t>Подведение итогов урок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Times New Roman"/>
              </a:rPr>
              <a:t>Оцени свою работу на уроке, для чего подсчитай общее количество набранных баллов, включая ответы тестового опрос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Если в сумме получилос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16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1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3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2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7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ов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4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;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28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 - </a:t>
            </a:r>
            <a:r>
              <a:rPr b="1" lang="en-US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31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лла, - оценка </a:t>
            </a:r>
            <a:r>
              <a:rPr b="1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«5»</a:t>
            </a:r>
            <a:r>
              <a:rPr b="0" lang="ru-RU" sz="2500" spc="-1" strike="noStrike">
                <a:solidFill>
                  <a:srgbClr val="ffff66"/>
                </a:solidFill>
                <a:latin typeface="Arial"/>
                <a:ea typeface="Times New Roman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3500" spc="-1" strike="noStrike">
                <a:solidFill>
                  <a:srgbClr val="ff3300"/>
                </a:solidFill>
                <a:latin typeface="Arial"/>
              </a:rPr>
              <a:t>Домашнее задание: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, конспект + вопросы к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§3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*№141 - 14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re_48"/>
          <p:cNvPicPr/>
          <p:nvPr/>
        </p:nvPicPr>
        <p:blipFill>
          <a:blip r:embed="rId1"/>
          <a:stretch/>
        </p:blipFill>
        <p:spPr>
          <a:xfrm>
            <a:off x="533520" y="380880"/>
            <a:ext cx="525240" cy="129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rupor"/>
          <p:cNvPicPr/>
          <p:nvPr/>
        </p:nvPicPr>
        <p:blipFill>
          <a:blip r:embed="rId2"/>
          <a:stretch/>
        </p:blipFill>
        <p:spPr>
          <a:xfrm>
            <a:off x="533520" y="4532400"/>
            <a:ext cx="892080" cy="422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6"/>
          <p:cNvSpPr/>
          <p:nvPr/>
        </p:nvSpPr>
        <p:spPr>
          <a:xfrm>
            <a:off x="8748720" y="6426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10800" y="4830"/>
                </a:moveTo>
                <a:lnTo>
                  <a:pt x="13376" y="7441"/>
                </a:ln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lnTo>
                  <a:pt x="17763" y="11793"/>
                </a:lnTo>
                <a:lnTo>
                  <a:pt x="16109" y="11793"/>
                </a:lnTo>
                <a:lnTo>
                  <a:pt x="16109" y="18982"/>
                </a:lnTo>
                <a:lnTo>
                  <a:pt x="5491" y="18982"/>
                </a:lnTo>
                <a:lnTo>
                  <a:pt x="5491" y="11793"/>
                </a:lnTo>
                <a:lnTo>
                  <a:pt x="3837" y="11793"/>
                </a:lnTo>
                <a:close/>
              </a:path>
              <a:path fill="darkenLess" w="21600" h="23585">
                <a:moveTo>
                  <a:pt x="13376" y="7441"/>
                </a:moveTo>
                <a:lnTo>
                  <a:pt x="13376" y="5700"/>
                </a:lnTo>
                <a:lnTo>
                  <a:pt x="15152" y="5700"/>
                </a:lnTo>
                <a:lnTo>
                  <a:pt x="15152" y="9216"/>
                </a:lnTo>
                <a:close/>
              </a:path>
              <a:path fill="darkenLess" w="21600" h="23585">
                <a:moveTo>
                  <a:pt x="9877" y="15291"/>
                </a:moveTo>
                <a:lnTo>
                  <a:pt x="11723" y="15291"/>
                </a:lnTo>
                <a:lnTo>
                  <a:pt x="11723" y="18982"/>
                </a:lnTo>
                <a:lnTo>
                  <a:pt x="16109" y="18982"/>
                </a:lnTo>
                <a:lnTo>
                  <a:pt x="16109" y="11793"/>
                </a:lnTo>
                <a:lnTo>
                  <a:pt x="5491" y="11793"/>
                </a:lnTo>
                <a:lnTo>
                  <a:pt x="5491" y="18982"/>
                </a:lnTo>
                <a:lnTo>
                  <a:pt x="9877" y="18982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D78B-5814-4493-B24E-50A1E643651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. Оптическая сила 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692360" y="227664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верка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692360" y="314172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92360" y="400536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репление изучен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1692360" y="4869000"/>
            <a:ext cx="5761080" cy="718920"/>
          </a:xfrm>
          <a:custGeom>
            <a:avLst/>
            <a:gdLst>
              <a:gd name="textAreaLeft" fmla="*/ 46440 w 5761080"/>
              <a:gd name="textAreaRight" fmla="*/ 5714640 w 5761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73016" h="21600">
                <a:moveTo>
                  <a:pt x="0" y="0"/>
                </a:moveTo>
                <a:lnTo>
                  <a:pt x="173016" y="0"/>
                </a:lnTo>
                <a:lnTo>
                  <a:pt x="173016" y="21600"/>
                </a:lnTo>
                <a:lnTo>
                  <a:pt x="0" y="21600"/>
                </a:lnTo>
                <a:close/>
              </a:path>
              <a:path fill="lightenLess" w="173016" h="21600">
                <a:moveTo>
                  <a:pt x="0" y="0"/>
                </a:moveTo>
                <a:lnTo>
                  <a:pt x="173016" y="0"/>
                </a:lnTo>
                <a:lnTo>
                  <a:pt x="171616" y="1400"/>
                </a:lnTo>
                <a:lnTo>
                  <a:pt x="1400" y="1400"/>
                </a:lnTo>
                <a:close/>
              </a:path>
              <a:path fill="darken" w="173016" h="21600">
                <a:moveTo>
                  <a:pt x="173016" y="0"/>
                </a:moveTo>
                <a:lnTo>
                  <a:pt x="173016" y="21600"/>
                </a:lnTo>
                <a:lnTo>
                  <a:pt x="171616" y="20200"/>
                </a:lnTo>
                <a:lnTo>
                  <a:pt x="171616" y="1400"/>
                </a:lnTo>
                <a:close/>
              </a:path>
              <a:path fill="darkenLess" w="173016" h="21600">
                <a:moveTo>
                  <a:pt x="1730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616" y="20200"/>
                </a:lnTo>
                <a:close/>
              </a:path>
              <a:path fill="lighten" w="1730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ведение итогов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A791-A209-4C83-82BD-20007430FAC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Ответы на тестовые задания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8028000" y="3213000"/>
                <a:ext cx="8557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2" name=""/>
          <p:cNvGraphicFramePr/>
          <p:nvPr/>
        </p:nvGraphicFramePr>
        <p:xfrm>
          <a:off x="395280" y="1341360"/>
          <a:ext cx="8424720" cy="230364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3360"/>
                <a:gridCol w="650880"/>
                <a:gridCol w="649440"/>
                <a:gridCol w="647640"/>
                <a:gridCol w="703080"/>
                <a:gridCol w="736560"/>
                <a:gridCol w="736560"/>
              </a:tblGrid>
              <a:tr h="5050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5280" y="3860640"/>
          <a:ext cx="8424720" cy="2297160"/>
        </p:xfrm>
        <a:graphic>
          <a:graphicData uri="http://schemas.openxmlformats.org/drawingml/2006/table">
            <a:tbl>
              <a:tblPr/>
              <a:tblGrid>
                <a:gridCol w="2587680"/>
                <a:gridCol w="554040"/>
                <a:gridCol w="555480"/>
                <a:gridCol w="601920"/>
                <a:gridCol w="650880"/>
                <a:gridCol w="649080"/>
                <a:gridCol w="649440"/>
                <a:gridCol w="703080"/>
                <a:gridCol w="736560"/>
                <a:gridCol w="736560"/>
              </a:tblGrid>
              <a:tr h="51048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прос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II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X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балл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158"/>
              <p:cNvSpPr txBox="1"/>
              <p:nvPr/>
            </p:nvSpPr>
            <p:spPr>
              <a:xfrm>
                <a:off x="8101080" y="5734080"/>
                <a:ext cx="6476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AutoShape 159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5004-EEB5-4D87-B770-5613081A2F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Актуализация знаний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е явление называется преломлением света? В чем его суть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то называют абсолютным показателем преломления сред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каком случае угол падения светового луча равен углу преломлени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ой угол: падения или преломления будет больше при переходе луча света из воздуха в стекл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формулируйте закон отражения све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чему находясь в лодке, трудно попасть копьем в рыбу, плавающую невдалеке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710560" y="6426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AEFC-A8CD-4C9F-A51E-278775AD26E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1"/>
          <p:cNvPicPr/>
          <p:nvPr/>
        </p:nvPicPr>
        <p:blipFill>
          <a:blip r:embed="rId1"/>
          <a:stretch/>
        </p:blipFill>
        <p:spPr>
          <a:xfrm>
            <a:off x="2643120" y="642960"/>
            <a:ext cx="3932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3BDC-F66D-4A04-88FD-3D5044943D9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Линзы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0" descr="4"/>
          <p:cNvPicPr/>
          <p:nvPr/>
        </p:nvPicPr>
        <p:blipFill>
          <a:blip r:embed="rId1"/>
          <a:stretch/>
        </p:blipFill>
        <p:spPr>
          <a:xfrm>
            <a:off x="457200" y="2492280"/>
            <a:ext cx="40384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5"/>
          <p:cNvPicPr/>
          <p:nvPr/>
        </p:nvPicPr>
        <p:blipFill>
          <a:blip r:embed="rId2"/>
          <a:stretch/>
        </p:blipFill>
        <p:spPr>
          <a:xfrm>
            <a:off x="4648320" y="2475000"/>
            <a:ext cx="4038480" cy="2900160"/>
          </a:xfrm>
          <a:prstGeom prst="rect">
            <a:avLst/>
          </a:prstGeom>
          <a:ln w="0">
            <a:noFill/>
          </a:ln>
        </p:spPr>
      </p:pic>
      <p:sp>
        <p:nvSpPr>
          <p:cNvPr id="176" name="Line 12"/>
          <p:cNvSpPr/>
          <p:nvPr/>
        </p:nvSpPr>
        <p:spPr>
          <a:xfrm flipH="1">
            <a:off x="4571640" y="1628640"/>
            <a:ext cx="3240" cy="4321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AC69-B024-4B50-B4F0-64FC9257D46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12"/>
          <p:cNvPicPr/>
          <p:nvPr/>
        </p:nvPicPr>
        <p:blipFill>
          <a:blip r:embed="rId1"/>
          <a:stretch/>
        </p:blipFill>
        <p:spPr>
          <a:xfrm>
            <a:off x="2428920" y="500040"/>
            <a:ext cx="41194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3F6E-9644-4806-A6E8-1F626F1EF97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Тонкая линза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7" descr="11"/>
          <p:cNvPicPr/>
          <p:nvPr/>
        </p:nvPicPr>
        <p:blipFill>
          <a:blip r:embed="rId1"/>
          <a:stretch/>
        </p:blipFill>
        <p:spPr>
          <a:xfrm>
            <a:off x="2484360" y="1628640"/>
            <a:ext cx="40165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8232-A7B6-46FC-981F-21EA62A28710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7" descr="2"/>
          <p:cNvPicPr/>
          <p:nvPr/>
        </p:nvPicPr>
        <p:blipFill>
          <a:blip r:embed="rId1"/>
          <a:stretch/>
        </p:blipFill>
        <p:spPr>
          <a:xfrm>
            <a:off x="324000" y="1989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3"/>
          <p:cNvPicPr/>
          <p:nvPr/>
        </p:nvPicPr>
        <p:blipFill>
          <a:blip r:embed="rId2"/>
          <a:stretch/>
        </p:blipFill>
        <p:spPr>
          <a:xfrm>
            <a:off x="4716360" y="1989000"/>
            <a:ext cx="4038840" cy="2714760"/>
          </a:xfrm>
          <a:prstGeom prst="rect">
            <a:avLst/>
          </a:prstGeom>
          <a:ln w="0">
            <a:noFill/>
          </a:ln>
        </p:spPr>
      </p:pic>
      <p:sp>
        <p:nvSpPr>
          <p:cNvPr id="185" name="Line 9"/>
          <p:cNvSpPr/>
          <p:nvPr/>
        </p:nvSpPr>
        <p:spPr>
          <a:xfrm flipH="1">
            <a:off x="4530240" y="1052640"/>
            <a:ext cx="3240" cy="4321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1:36:32Z</dcterms:created>
  <dc:creator>Solovjev</dc:creator>
  <dc:description/>
  <dc:language>en-US</dc:language>
  <cp:lastModifiedBy>Teacher</cp:lastModifiedBy>
  <dcterms:modified xsi:type="dcterms:W3CDTF">2013-03-11T14:12:24Z</dcterms:modified>
  <cp:revision>12</cp:revision>
  <dc:subject/>
  <dc:title>Слайд 1</dc:title>
</cp:coreProperties>
</file>